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6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8BC78-524A-4F58-BA73-8D1AD069C4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85356-8AC5-438C-A2E9-DCF9774913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7E86E-AEE8-4ACA-AF6A-8A4B7D5770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F31C2-AD16-43F9-B7DE-6FDBFFD66B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72CF-21B1-410E-B88E-C1AD0138C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0010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09120" y="4028400"/>
            <a:ext cx="80010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DFFC-870A-4C82-A5E2-4F61EFE44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904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08800" y="1600200"/>
            <a:ext cx="3904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9120" y="4028400"/>
            <a:ext cx="3904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08800" y="4028400"/>
            <a:ext cx="3904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419A-46B7-44A1-92B8-D5D04DE1A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257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4520" y="1600200"/>
            <a:ext cx="257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19920" y="1600200"/>
            <a:ext cx="257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09120" y="4028400"/>
            <a:ext cx="257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4520" y="4028400"/>
            <a:ext cx="257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19920" y="4028400"/>
            <a:ext cx="2576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7477-AC61-49E3-8EF4-8B05AF267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09120" y="160020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F4AF-26C6-4E45-B92A-2F68660A1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12FF-80B2-4B51-910A-AF24B6B02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904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08800" y="1600200"/>
            <a:ext cx="3904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DBB9-A1AC-487E-9CEE-1C5FFACA5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03DB-CFDC-4123-863D-A8152F7AF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AF72-CBD7-4DEA-ABE5-3F53E007D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904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08800" y="1600200"/>
            <a:ext cx="3904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09120" y="4028400"/>
            <a:ext cx="3904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2B5C-3E2D-4047-807F-C3939C046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904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08800" y="1600200"/>
            <a:ext cx="3904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0" y="4028400"/>
            <a:ext cx="3904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0D6F-EB29-4423-85E7-BBAA39119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904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0" y="1600200"/>
            <a:ext cx="3904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120" y="4028400"/>
            <a:ext cx="80010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ABC5-5BD7-4286-A69A-849F0BEC2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cad"/>
          <p:cNvPicPr/>
          <p:nvPr/>
        </p:nvPicPr>
        <p:blipFill>
          <a:blip r:embed="rId2"/>
          <a:stretch/>
        </p:blipFill>
        <p:spPr>
          <a:xfrm>
            <a:off x="0" y="-28440"/>
            <a:ext cx="9144000" cy="6886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120" y="160020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4F5B2-4EC3-4682-A956-7FDDBFBB09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0"/>
          <p:cNvSpPr/>
          <p:nvPr/>
        </p:nvSpPr>
        <p:spPr>
          <a:xfrm>
            <a:off x="228600" y="152280"/>
            <a:ext cx="8610480" cy="6553440"/>
          </a:xfrm>
          <a:prstGeom prst="rect">
            <a:avLst/>
          </a:prstGeom>
          <a:noFill/>
          <a:ln w="954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60000"/>
                </a:solidFill>
                <a:latin typeface="Arial"/>
              </a:rPr>
              <a:t>Safety for</a:t>
            </a:r>
            <a:br>
              <a:rPr sz="5400"/>
            </a:br>
            <a:r>
              <a:rPr b="1" lang="en-US" sz="5400" spc="-1" strike="noStrike">
                <a:solidFill>
                  <a:srgbClr val="d60000"/>
                </a:solidFill>
                <a:latin typeface="Arial"/>
              </a:rPr>
              <a:t>Health Science</a:t>
            </a:r>
            <a:br>
              <a:rPr sz="5400"/>
            </a:br>
            <a:r>
              <a:rPr b="1" lang="en-US" sz="5400" spc="-1" strike="noStrike">
                <a:solidFill>
                  <a:srgbClr val="d60000"/>
                </a:solidFill>
                <a:latin typeface="Arial"/>
              </a:rPr>
              <a:t>Student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00000"/>
                </a:solidFill>
                <a:latin typeface="Arial"/>
              </a:rPr>
              <a:t>OSHA</a:t>
            </a:r>
            <a:br>
              <a:rPr sz="4000"/>
            </a:br>
            <a:r>
              <a:rPr b="1" lang="en-US" sz="2800" spc="-1" strike="noStrike">
                <a:solidFill>
                  <a:srgbClr val="e00000"/>
                </a:solidFill>
                <a:latin typeface="Arial"/>
              </a:rPr>
              <a:t>Occupational Safety &amp; Health Adminis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Requires th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Arial"/>
              </a:rPr>
              <a:t>All substances must be label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Arial"/>
              </a:rPr>
              <a:t>Labels must identify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Arial"/>
              </a:rPr>
              <a:t>physical &amp; health hazar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Arial"/>
              </a:rPr>
              <a:t>precaution measu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Arial"/>
              </a:rPr>
              <a:t>PPE (Personal Protective Equipment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Arial"/>
              </a:rPr>
              <a:t>directions for using substance safe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Arial"/>
              </a:rPr>
              <a:t>storage and disposal inform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Arial"/>
              </a:rPr>
              <a:t>labels MAY NOT be remo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00000"/>
                </a:solidFill>
                <a:latin typeface="Arial"/>
              </a:rPr>
              <a:t>MSD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Material Safety Data Sheets (MSDS) provide detailed information abou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Arial"/>
              </a:rPr>
              <a:t>Product &amp; company identific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Arial"/>
              </a:rPr>
              <a:t>Ingredient inform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Arial"/>
              </a:rPr>
              <a:t>Hazard identific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Arial"/>
              </a:rPr>
              <a:t>First aid measu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Arial"/>
              </a:rPr>
              <a:t>Fire fighting measu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Arial"/>
              </a:rPr>
              <a:t>Accidental release measu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Arial"/>
              </a:rPr>
              <a:t>Handling &amp; stora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Arial"/>
              </a:rPr>
              <a:t>Exposure controls/ PP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Arial"/>
              </a:rPr>
              <a:t>Stability &amp; reactiv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00000"/>
                </a:solidFill>
                <a:latin typeface="Arial"/>
              </a:rPr>
              <a:t>MS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Employees (students) must know the location of the MSDS and how to use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4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40000"/>
                </a:solidFill>
                <a:latin typeface="Arial"/>
              </a:rPr>
              <a:t>The MSDS book in my classroom is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4"/>
          <p:cNvSpPr/>
          <p:nvPr/>
        </p:nvSpPr>
        <p:spPr>
          <a:xfrm>
            <a:off x="457200" y="3124080"/>
            <a:ext cx="1219320" cy="1219320"/>
          </a:xfrm>
          <a:prstGeom prst="irregularSeal2">
            <a:avLst/>
          </a:prstGeom>
          <a:solidFill>
            <a:srgbClr val="e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00000"/>
                </a:solidFill>
                <a:latin typeface="Arial"/>
              </a:rPr>
              <a:t>Standard (Universal) Precaution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ed to reduce the risk of exposure of skin or mucous membranes that could come in contact with materials that may contain blood-borne pathog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40000"/>
                </a:solidFill>
                <a:latin typeface="Arial"/>
              </a:rPr>
              <a:t>MAY include protective barriers such 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lo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ow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tective eyew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00000"/>
                </a:solidFill>
                <a:latin typeface="Arial"/>
              </a:rPr>
              <a:t>What are Standard Precautions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243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0000"/>
                </a:solidFill>
                <a:latin typeface="Arial"/>
              </a:rPr>
              <a:t>Precautions that apply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ood or other body fluids containing blood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ginal secre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47960" y="1218960"/>
            <a:ext cx="39243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0000"/>
                </a:solidFill>
                <a:latin typeface="Arial"/>
              </a:rPr>
              <a:t>They do not apply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sal secretions, sput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rs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ri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liv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m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00000"/>
                </a:solidFill>
                <a:latin typeface="Arial"/>
              </a:rPr>
              <a:t>unless these contain visible blood or are likely to contain  blood</a:t>
            </a:r>
            <a:r>
              <a:rPr b="1" lang="en-US" sz="2400" spc="-1" strike="noStrike">
                <a:solidFill>
                  <a:srgbClr val="e00000"/>
                </a:solidFill>
                <a:latin typeface="Arial"/>
              </a:rPr>
              <a:t>.</a:t>
            </a:r>
            <a:r>
              <a:rPr b="1" lang="en-US" sz="2800" spc="-1" strike="noStrike">
                <a:solidFill>
                  <a:srgbClr val="e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533520" y="571500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most facilities adopt the policy of using PPE when in contact with any of these body flui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7"/>
          <p:cNvSpPr/>
          <p:nvPr/>
        </p:nvSpPr>
        <p:spPr>
          <a:xfrm>
            <a:off x="380880" y="5105520"/>
            <a:ext cx="685800" cy="685800"/>
          </a:xfrm>
          <a:prstGeom prst="irregularSeal2">
            <a:avLst/>
          </a:prstGeom>
          <a:solidFill>
            <a:srgbClr val="e00000"/>
          </a:solidFill>
          <a:ln w="9360">
            <a:solidFill>
              <a:srgbClr val="e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00000"/>
                </a:solidFill>
                <a:latin typeface="Arial"/>
              </a:rPr>
              <a:t>Transmission Based Precaution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Required, in addition to Standard Precautions, where airborne, droplet and contact transmission of infectious organisms may occu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n transmission based precautions includ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hand wash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leaning &amp; sanitation of su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 flipV="1">
            <a:off x="2514600" y="460080"/>
            <a:ext cx="3733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3600" spc="-1" strike="noStrike">
                <a:solidFill>
                  <a:srgbClr val="e00000"/>
                </a:solidFill>
                <a:latin typeface="Arial"/>
              </a:rPr>
              <a:t>FOUR WAYS TO SPREAD</a:t>
            </a:r>
            <a:r>
              <a:rPr b="0" lang="en-US" sz="3600" spc="-1" strike="noStrike">
                <a:solidFill>
                  <a:srgbClr val="e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e00000"/>
                </a:solidFill>
                <a:latin typeface="Arial"/>
              </a:rPr>
              <a:t>GERMS (Transmission of Germs)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Airborne or respiratory ro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.Direct contact ro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Fecal-oral ro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Blood contact ro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00000"/>
                </a:solidFill>
                <a:latin typeface="Arial"/>
              </a:rPr>
              <a:t>STANDARD PRECAUTIONS: How to Practi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68680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Handwas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Glo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Personal Protective Equipment (PP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Sanitiz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5.  Waste Dispo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6.  Immu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00000"/>
                </a:solidFill>
                <a:latin typeface="Arial"/>
              </a:rPr>
              <a:t>ADDITIONAL PP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90360" y="2514600"/>
            <a:ext cx="3925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Ma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Apr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Gow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Face shiel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rgioi01v[1]"/>
          <p:cNvPicPr/>
          <p:nvPr/>
        </p:nvPicPr>
        <p:blipFill>
          <a:blip r:embed="rId1"/>
          <a:stretch/>
        </p:blipFill>
        <p:spPr>
          <a:xfrm>
            <a:off x="4681440" y="1835280"/>
            <a:ext cx="2387520" cy="3443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00000"/>
                </a:solidFill>
                <a:latin typeface="Arial"/>
              </a:rPr>
              <a:t>Preventing Muscle &amp; Back Inju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Ask for help when lifting or moving heavy objec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Always use large muscles when lifting or moving heavy objec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quat when lifting heavy objec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Keep objects close to your bod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00000"/>
                </a:solidFill>
                <a:latin typeface="Arial"/>
              </a:rPr>
              <a:t>Classroom R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f5e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5e89"/>
                </a:solidFill>
                <a:latin typeface="Arial"/>
              </a:rPr>
              <a:t>No running, climbing, or throw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f5e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5e89"/>
                </a:solidFill>
                <a:latin typeface="Arial"/>
              </a:rPr>
              <a:t>Keep bags and purses on shelf or under des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f5e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5e89"/>
                </a:solidFill>
                <a:latin typeface="Arial"/>
              </a:rPr>
              <a:t>Keep your hands to yoursel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f5e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5e89"/>
                </a:solidFill>
                <a:latin typeface="Arial"/>
              </a:rPr>
              <a:t>Respect yourself and oth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00000"/>
                </a:solidFill>
                <a:latin typeface="Arial"/>
              </a:rPr>
              <a:t>Safety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A safety team, made of 6 students, will conduct an inspection each month, noting and reporting viol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40000"/>
                </a:solidFill>
                <a:latin typeface="Arial"/>
              </a:rPr>
              <a:t>All students are responsible for reporting unsafe condi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4"/>
          <p:cNvSpPr/>
          <p:nvPr/>
        </p:nvSpPr>
        <p:spPr>
          <a:xfrm>
            <a:off x="457200" y="3581280"/>
            <a:ext cx="1219320" cy="1295640"/>
          </a:xfrm>
          <a:prstGeom prst="irregularSeal2">
            <a:avLst/>
          </a:prstGeom>
          <a:solidFill>
            <a:srgbClr val="e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60000"/>
                </a:solidFill>
                <a:latin typeface="Arial"/>
              </a:rPr>
              <a:t>Lab R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5e89"/>
                </a:solidFill>
                <a:latin typeface="Arial"/>
              </a:rPr>
              <a:t>Students may no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f5e8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5e89"/>
                </a:solidFill>
                <a:latin typeface="Arial"/>
              </a:rPr>
              <a:t>be in lab without teac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f5e8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5e89"/>
                </a:solidFill>
                <a:latin typeface="Arial"/>
              </a:rPr>
              <a:t>be in storage areas without per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f5e8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5e89"/>
                </a:solidFill>
                <a:latin typeface="Arial"/>
              </a:rPr>
              <a:t>sit or lay on b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f5e8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5e89"/>
                </a:solidFill>
                <a:latin typeface="Arial"/>
              </a:rPr>
              <a:t>use equipment without per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00000"/>
                </a:solidFill>
                <a:latin typeface="Arial"/>
              </a:rPr>
              <a:t>Clinical R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5e89"/>
                </a:solidFill>
                <a:latin typeface="Arial"/>
              </a:rPr>
              <a:t>Students must at all tim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f5e8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5e89"/>
                </a:solidFill>
                <a:latin typeface="Arial"/>
              </a:rPr>
              <a:t>stay within assigned un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f5e8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5e89"/>
                </a:solidFill>
                <a:latin typeface="Arial"/>
              </a:rPr>
              <a:t>follow facility poli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f5e8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5e89"/>
                </a:solidFill>
                <a:latin typeface="Arial"/>
              </a:rPr>
              <a:t>dress appropriat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f5e8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5e89"/>
                </a:solidFill>
                <a:latin typeface="Arial"/>
              </a:rPr>
              <a:t>act in a respectful, courteous mann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f5e8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5e89"/>
                </a:solidFill>
                <a:latin typeface="Arial"/>
              </a:rPr>
              <a:t>be ready to leave at the proper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00000"/>
                </a:solidFill>
                <a:latin typeface="Arial"/>
              </a:rPr>
              <a:t>work within your scope of prac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0000"/>
                </a:solidFill>
                <a:latin typeface="Arial"/>
              </a:rPr>
              <a:t>doing what you are qualified to 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00000"/>
                </a:solidFill>
                <a:latin typeface="Arial"/>
              </a:rPr>
              <a:t>Fi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lements of f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oxy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heat (a spark or fla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u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00000"/>
                </a:solidFill>
                <a:latin typeface="Arial"/>
              </a:rPr>
              <a:t>One of these must be eliminated to extinguish a fi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ire preven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torage of flammable 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aintenance of electrical equi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non smoking fac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00000"/>
                </a:solidFill>
                <a:latin typeface="Arial"/>
              </a:rPr>
              <a:t>In Case of a Fi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Know where extinguishers and emergency exits 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Remember “R A C 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4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40000"/>
                </a:solidFill>
                <a:latin typeface="Arial"/>
              </a:rPr>
              <a:t>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– resc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4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40000"/>
                </a:solidFill>
                <a:latin typeface="Arial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– al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4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40000"/>
                </a:solidFill>
                <a:latin typeface="Arial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– conf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4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40000"/>
                </a:solidFill>
                <a:latin typeface="Arial"/>
              </a:rPr>
              <a:t>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– extinguish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00000"/>
                </a:solidFill>
                <a:latin typeface="Arial"/>
              </a:rPr>
              <a:t>Fire Extinguish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Four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 – wood, paper, clo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B – grease, o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 – electric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bo – all 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All fire extinguishers must be serviced yearly by a professional and checked monthly by the safety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00000"/>
                </a:solidFill>
                <a:latin typeface="Arial"/>
              </a:rPr>
              <a:t>Using a Fire Extinguis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Remember the acronym “P A S 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P -- pull the p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A -- aim the nozz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S -- squeeze the trig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S – sweep from side to s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00000"/>
                </a:solidFill>
                <a:latin typeface="Arial"/>
              </a:rPr>
              <a:t>Hazardous Mater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 hazardous material is any substance that presents a physical or health hazar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OSHA requires that employees understand the risks and know how to handle hazardous substances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Physical hazards can cause fire or explosions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Health hazards can cause be acute (short) or chronic (long) term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3T21:56:31Z</dcterms:created>
  <dc:creator>teresa rogers</dc:creator>
  <dc:description/>
  <dc:language>en-US</dc:language>
  <cp:lastModifiedBy>Krista</cp:lastModifiedBy>
  <dcterms:modified xsi:type="dcterms:W3CDTF">2011-08-13T21:32:53Z</dcterms:modified>
  <cp:revision>6</cp:revision>
  <dc:subject/>
  <dc:title>Safety for Health Science Students</dc:title>
</cp:coreProperties>
</file>